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4DCCB-ED8F-4054-AE7C-0823A60CA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14B76-5245-4EA2-92A9-5B9ADB62F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7428A-88F4-4145-BB48-8E0503972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E597C-412D-4A67-AED4-008C3845C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82B297-E27B-4CDD-9D5C-2EBE0C8885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56E24-3357-47BF-BDCA-238945371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154A4-0999-43E2-BA27-A82A2EB55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EA67E-41D3-4CFD-B355-D9C5E0EC8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3349C-5E03-4D0D-AA56-5D716CE85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B75AA-EA25-4E8C-8400-A650813C9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1B676-3B2C-4D74-B725-7F2435BE4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B1907-7F71-46C3-A78E-D5C392722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BF85F-BB1F-4B3D-96DA-04581DD1F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F654E-26AF-4CA6-8596-4150411EB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DD016-33FD-44A6-9757-CB8C2F37C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E59640-90EE-42FA-BC9C-153E0462F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C16060-2D6F-42A8-BFF4-5F2B58ADE5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831B8-3DBE-4AB7-9D11-490DCAD9D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979CB-09A4-40B2-A72D-8307AA622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94FB5-83D4-4E47-AF46-E67EC1C2A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5DDC4-5736-43D9-B630-B0F8211F8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16C57-7FC7-4EB5-A5FE-90007C4B3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A9883-7DE2-447A-90E2-27A9545D3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B5414-1AC9-4645-8050-502800C1D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EBA3D-2500-4B2B-BC7D-5FCCF1D6C264}" type="slidenum">
              <a:rPr b="0" lang="ar-SA"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17DF6-1AC1-4E54-BB48-BCAE9D0D3198}" type="slidenum">
              <a:rPr b="0" lang="ar-SA"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rtl="1">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rtl="1">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80640"/>
            <a:ext cx="7772400" cy="201636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500" spc="-1" strike="noStrike">
                <a:solidFill>
                  <a:srgbClr val="000000"/>
                </a:solidFill>
                <a:latin typeface="Arial"/>
                <a:cs typeface="khalaad al-arabeh"/>
              </a:rPr>
              <a:t>تنمية مهارات التفكير</a:t>
            </a:r>
            <a:endParaRPr b="0" lang="en-US" sz="8500" spc="-1" strike="noStrike">
              <a:solidFill>
                <a:srgbClr val="000000"/>
              </a:solidFill>
              <a:latin typeface="Arial"/>
            </a:endParaRPr>
          </a:p>
        </p:txBody>
      </p:sp>
      <p:sp>
        <p:nvSpPr>
          <p:cNvPr id="87" name="PlaceHolder 2"/>
          <p:cNvSpPr>
            <a:spLocks noGrp="1"/>
          </p:cNvSpPr>
          <p:nvPr>
            <p:ph type="subTitle"/>
          </p:nvPr>
        </p:nvSpPr>
        <p:spPr>
          <a:xfrm>
            <a:off x="1403280" y="4652640"/>
            <a:ext cx="6400800" cy="13921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khalaad al-arabeh"/>
              </a:rPr>
              <a:t>إعداد المشرف التربوي</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khalaad al-arabeh"/>
              </a:rPr>
              <a:t>عيسى الحربي</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khalaad al-arabeh"/>
              </a:rPr>
              <a:t>إدارة التربية والتعليم بمحافظة القريات</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8c0039"/>
                </a:solidFill>
                <a:latin typeface="Arial"/>
                <a:cs typeface="khalaad al-arabeh"/>
              </a:rPr>
              <a:t>موضوعات ذات علاقة </a:t>
            </a:r>
            <a:br>
              <a:rPr sz="4400"/>
            </a:br>
            <a:r>
              <a:rPr b="0" lang="hi-IN" sz="4400" spc="-1" strike="noStrike">
                <a:solidFill>
                  <a:srgbClr val="8c0039"/>
                </a:solidFill>
                <a:latin typeface="Arial"/>
                <a:cs typeface="khalaad al-arabeh"/>
              </a:rPr>
              <a:t>بتنمية مهارات التفكير</a:t>
            </a:r>
            <a:endParaRPr b="0" lang="en-US" sz="4400" spc="-1" strike="noStrike">
              <a:solidFill>
                <a:srgbClr val="8c0039"/>
              </a:solidFill>
              <a:latin typeface="Arial"/>
            </a:endParaRPr>
          </a:p>
        </p:txBody>
      </p:sp>
      <p:sp>
        <p:nvSpPr>
          <p:cNvPr id="10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هرم بلوم.</a:t>
            </a:r>
            <a:endParaRPr b="0" lang="en-US" sz="36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هرم ماسلو.</a:t>
            </a:r>
            <a:endParaRPr b="0" lang="en-US" sz="36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جدول المواصفات.</a:t>
            </a:r>
            <a:endParaRPr b="0" lang="en-US" sz="36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الاسئلة الصفية.</a:t>
            </a:r>
            <a:endParaRPr b="0" lang="en-US" sz="36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الاختبار.</a:t>
            </a:r>
            <a:endParaRPr b="0" lang="en-US" sz="3600" spc="-1" strike="noStrike">
              <a:solidFill>
                <a:srgbClr val="000000"/>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8c0039"/>
                </a:solidFill>
                <a:latin typeface="Arial"/>
                <a:cs typeface="khalaad al-arabeh"/>
              </a:rPr>
              <a:t>أمثلة على برامج تعليم التفكير</a:t>
            </a:r>
            <a:endParaRPr b="0" lang="en-US" sz="4400" spc="-1" strike="noStrike">
              <a:solidFill>
                <a:srgbClr val="8c0039"/>
              </a:solidFill>
              <a:latin typeface="Arial"/>
            </a:endParaRPr>
          </a:p>
        </p:txBody>
      </p:sp>
      <p:sp>
        <p:nvSpPr>
          <p:cNvPr id="107" name="PlaceHolder 1"/>
          <p:cNvSpPr>
            <a:spLocks noGrp="1"/>
          </p:cNvSpPr>
          <p:nvPr>
            <p:ph/>
          </p:nvPr>
        </p:nvSpPr>
        <p:spPr>
          <a:xfrm>
            <a:off x="2438280" y="2189160"/>
            <a:ext cx="6400800" cy="3906720"/>
          </a:xfrm>
          <a:prstGeom prst="rect">
            <a:avLst/>
          </a:prstGeom>
          <a:noFill/>
          <a:ln w="0">
            <a:noFill/>
          </a:ln>
        </p:spPr>
        <p:txBody>
          <a:bodyPr lIns="90000" rIns="90000" tIns="46800" bIns="46800" anchor="t">
            <a:normAutofit/>
          </a:bodyPr>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c41a8"/>
                </a:solidFill>
                <a:latin typeface="Arial"/>
                <a:cs typeface="AdvertisingMedium"/>
              </a:rPr>
              <a:t>برنامج كورت </a:t>
            </a:r>
            <a:r>
              <a:rPr b="0" lang="en-US" sz="4400" spc="-1" strike="noStrike">
                <a:solidFill>
                  <a:srgbClr val="3c41a8"/>
                </a:solidFill>
                <a:latin typeface="Arial"/>
                <a:ea typeface="AdvertisingMedium"/>
              </a:rPr>
              <a:t>CORT</a:t>
            </a:r>
            <a:r>
              <a:rPr b="0" lang="ar-SA" sz="4400" spc="-1" strike="noStrike">
                <a:solidFill>
                  <a:srgbClr val="3c41a8"/>
                </a:solidFill>
                <a:latin typeface="Arial"/>
                <a:ea typeface="AdvertisingMedium"/>
              </a:rPr>
              <a:t>.</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c41a8"/>
                </a:solidFill>
                <a:latin typeface="Arial"/>
                <a:cs typeface="AdvertisingMedium"/>
              </a:rPr>
              <a:t>برنامج القبعات الست.</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c41a8"/>
                </a:solidFill>
                <a:latin typeface="Arial"/>
                <a:cs typeface="AdvertisingMedium"/>
              </a:rPr>
              <a:t>برنامج المفكر المبدع.</a:t>
            </a:r>
            <a:endParaRPr b="0" lang="en-US" sz="4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09" name="PlaceHolder 2"/>
          <p:cNvSpPr>
            <a:spLocks noGrp="1"/>
          </p:cNvSpPr>
          <p:nvPr>
            <p:ph/>
          </p:nvPr>
        </p:nvSpPr>
        <p:spPr>
          <a:xfrm>
            <a:off x="2438280" y="1989000"/>
            <a:ext cx="6400800" cy="4106880"/>
          </a:xfrm>
          <a:prstGeom prst="rect">
            <a:avLst/>
          </a:prstGeom>
          <a:noFill/>
          <a:ln w="0">
            <a:noFill/>
          </a:ln>
        </p:spPr>
        <p:txBody>
          <a:bodyPr lIns="90000" rIns="90000" tIns="46800" bIns="46800" anchor="t">
            <a:normAutofit fontScale="80000"/>
          </a:bodyPr>
          <a:p>
            <a:pPr marL="274320" indent="-274320" algn="just" rtl="1">
              <a:spcBef>
                <a:spcPts val="2251"/>
              </a:spcBef>
              <a:buClr>
                <a:srgbClr val="0033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cc"/>
                </a:solidFill>
                <a:latin typeface="Arial"/>
                <a:cs typeface="AdvertisingMedium"/>
              </a:rPr>
              <a:t>المعلم هو صاحب الكلمة الأولى والأخيرة في الصف .</a:t>
            </a:r>
            <a:endParaRPr b="0" lang="en-US" sz="3600" spc="-1" strike="noStrike">
              <a:solidFill>
                <a:srgbClr val="000000"/>
              </a:solidFill>
              <a:latin typeface="Arial"/>
            </a:endParaRPr>
          </a:p>
          <a:p>
            <a:pPr marL="274320" indent="-274320" algn="just" rtl="1">
              <a:spcBef>
                <a:spcPts val="2251"/>
              </a:spcBef>
              <a:buClr>
                <a:srgbClr val="0033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cc"/>
                </a:solidFill>
                <a:latin typeface="Arial"/>
                <a:cs typeface="AdvertisingMedium"/>
              </a:rPr>
              <a:t>المعلم هو مركز الفعل ويحتكر معظم وقت الحصة والطلبة خاملون </a:t>
            </a:r>
            <a:endParaRPr b="0" lang="en-US" sz="3600" spc="-1" strike="noStrike">
              <a:solidFill>
                <a:srgbClr val="000000"/>
              </a:solidFill>
              <a:latin typeface="Arial"/>
            </a:endParaRPr>
          </a:p>
          <a:p>
            <a:pPr marL="274320" indent="-274320" algn="just" rtl="1">
              <a:spcBef>
                <a:spcPts val="2251"/>
              </a:spcBef>
              <a:buClr>
                <a:srgbClr val="0033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cc"/>
                </a:solidFill>
                <a:latin typeface="Arial"/>
                <a:cs typeface="AdvertisingMedium"/>
              </a:rPr>
              <a:t>الكتاب المدرسي المقرر هو المرجع الوحيد للمعلم في أغلب الأحيان .</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1" name="PlaceHolder 2"/>
          <p:cNvSpPr>
            <a:spLocks noGrp="1"/>
          </p:cNvSpPr>
          <p:nvPr>
            <p:ph/>
          </p:nvPr>
        </p:nvSpPr>
        <p:spPr>
          <a:xfrm>
            <a:off x="2195280" y="1557360"/>
            <a:ext cx="6616440" cy="4896000"/>
          </a:xfrm>
          <a:prstGeom prst="rect">
            <a:avLst/>
          </a:prstGeom>
          <a:noFill/>
          <a:ln w="0">
            <a:noFill/>
          </a:ln>
        </p:spPr>
        <p:txBody>
          <a:bodyPr lIns="90000" rIns="90000" tIns="46800" bIns="4680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33cc"/>
                </a:solidFill>
                <a:latin typeface="Arial"/>
                <a:cs typeface="AdvertisingMedium"/>
              </a:rPr>
              <a:t>يعتمد المعلم على عدد محدود من الطلبة ، يوجه إليهم أسئلة دائما لإنقاذ الموقف والإجابة عن السؤال الصعب.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33cc"/>
                </a:solidFill>
                <a:latin typeface="Arial"/>
                <a:cs typeface="AdvertisingMedium"/>
              </a:rPr>
              <a:t>المعلم مغرم بإصدار الاحكام والتعليقات المحبطة لمن يجيبون بطريقة مختلفة عما يفكرون فيه ، </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85000"/>
          </a:bodyPr>
          <a:p>
            <a:pPr marL="291600" indent="-2916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cs typeface="AdvertisingMedium"/>
              </a:rPr>
              <a:t>المعلم لايتقبل الأفكار الغريبة أو الأسئلة الخارجية عن موضوع الدرس .</a:t>
            </a:r>
            <a:endParaRPr b="0" lang="en-US" sz="3200" spc="-1" strike="noStrike">
              <a:solidFill>
                <a:srgbClr val="000000"/>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cs typeface="AdvertisingMedium"/>
              </a:rPr>
              <a:t>معظم أسئلة المعلم من النوع الذي يتطلب مهارات تفكير متدنية .</a:t>
            </a:r>
            <a:endParaRPr b="0" lang="en-US" sz="3200" spc="-1" strike="noStrike">
              <a:solidFill>
                <a:srgbClr val="000000"/>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cs typeface="AdvertisingMedium"/>
              </a:rPr>
              <a:t>نادراً ما يسأل المعلم أسئلة تبدأ بكيف ؟ ولماذا ؟ وماذا لو.</a:t>
            </a:r>
            <a:endParaRPr b="0" lang="en-US" sz="3200" spc="-1" strike="noStrike">
              <a:solidFill>
                <a:srgbClr val="000000"/>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5" name="PlaceHolder 2"/>
          <p:cNvSpPr>
            <a:spLocks noGrp="1"/>
          </p:cNvSpPr>
          <p:nvPr>
            <p:ph/>
          </p:nvPr>
        </p:nvSpPr>
        <p:spPr>
          <a:xfrm>
            <a:off x="2438280" y="1599840"/>
            <a:ext cx="6400800" cy="4924440"/>
          </a:xfrm>
          <a:prstGeom prst="rect">
            <a:avLst/>
          </a:prstGeom>
          <a:noFill/>
          <a:ln w="0">
            <a:noFill/>
          </a:ln>
        </p:spPr>
        <p:txBody>
          <a:bodyPr lIns="90000" rIns="90000" tIns="46800" bIns="46800" anchor="t">
            <a:normAutofit fontScale="83000"/>
          </a:bodyPr>
          <a:p>
            <a:pPr marL="284400" indent="-284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3200" spc="-1" strike="noStrike">
                <a:solidFill>
                  <a:srgbClr val="0033cc"/>
                </a:solidFill>
                <a:latin typeface="Arial"/>
                <a:cs typeface="AdvertisingMedium"/>
              </a:rPr>
              <a:t>أحياناً يعاقب المعلم التلميذ على التساؤل ويتعرض للسخرية .</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4400" indent="-284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ميل المعلم نحو مكافأة التلاميذ الذين يبدون سلوك الطاعة والإذعان والمسايرة .</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4400" indent="-284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عتقد المعلم أن مهارات التفكير توجد وتنمو مع نمو جسم الإنسان ولذا فالتعلم قليل التأثير فيها كماً ونوعاً.</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7" name="PlaceHolder 2"/>
          <p:cNvSpPr>
            <a:spLocks noGrp="1"/>
          </p:cNvSpPr>
          <p:nvPr>
            <p:ph/>
          </p:nvPr>
        </p:nvSpPr>
        <p:spPr>
          <a:xfrm>
            <a:off x="2438280" y="1600200"/>
            <a:ext cx="6400800" cy="499752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نادراً ما يعتمد المعلم على أساليب حديثة لتوصيل المعلومات كأسلوب البحث والاستقصاء والنقاش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المعلم يفضل الطالب الحافظ على الطالب المبتكر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صر المعلم في الغالب على ممارسة دوره التقليدي في تزويد الطلاب بالمعلومات ومطالبتهم بالحفظ والاسترجاع.</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9" name="PlaceHolder 2"/>
          <p:cNvSpPr>
            <a:spLocks noGrp="1"/>
          </p:cNvSpPr>
          <p:nvPr>
            <p:ph/>
          </p:nvPr>
        </p:nvSpPr>
        <p:spPr>
          <a:xfrm>
            <a:off x="2123640" y="1599840"/>
            <a:ext cx="6715080" cy="52578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3200" spc="-1" strike="noStrike">
                <a:solidFill>
                  <a:srgbClr val="0033cc"/>
                </a:solidFill>
                <a:latin typeface="Arial"/>
                <a:cs typeface="AdvertisingMedium"/>
              </a:rPr>
              <a:t>يقوم المعلم طلابه في الغالب من خلال استظهار المعلومات التي يفترض انهم حفظوها مسبقاً.</a:t>
            </a:r>
            <a:endParaRPr b="0" lang="en-US" sz="3200" spc="-1" strike="noStrike">
              <a:solidFill>
                <a:srgbClr val="000000"/>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حصل المتعلم في الغالب على تعزيز لفظي نمطي على تحصيله وحفظه وليس على إبداعه فالأخير ربما يقابل بفتور  .</a:t>
            </a:r>
            <a:endParaRPr b="0" lang="en-US" sz="3200" spc="-1" strike="noStrike">
              <a:solidFill>
                <a:srgbClr val="000000"/>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ندر استخدام المعلم لاستراتيجيات التعلم التعاوني.</a:t>
            </a:r>
            <a:endParaRPr b="0" lang="en-US" sz="3200" spc="-1" strike="noStrike">
              <a:solidFill>
                <a:srgbClr val="000000"/>
              </a:solidFill>
              <a:latin typeface="Arial"/>
            </a:endParaRPr>
          </a:p>
          <a:p>
            <a:pPr marL="322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21" name="PlaceHolder 2"/>
          <p:cNvSpPr>
            <a:spLocks noGrp="1"/>
          </p:cNvSpPr>
          <p:nvPr>
            <p:ph/>
          </p:nvPr>
        </p:nvSpPr>
        <p:spPr>
          <a:xfrm>
            <a:off x="2339640" y="1600200"/>
            <a:ext cx="649908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3200" spc="-1" strike="noStrike">
                <a:solidFill>
                  <a:srgbClr val="3c41a8"/>
                </a:solidFill>
                <a:latin typeface="Arial"/>
                <a:cs typeface="AdvertisingMedium"/>
              </a:rPr>
              <a:t>تسود بين الطلاب مشاعر القلق والخوف والتوتر في جو يعتمد الأمان فيه على مقدار ما يحصل عليه الطالب من الدرجات ولذا ثقة الطالب في نفسه ليست مرتبطة بقدراته عدا الحفظ والاستظهار.</a:t>
            </a:r>
            <a:endParaRPr b="0" lang="en-US" sz="3200" spc="-1" strike="noStrike">
              <a:solidFill>
                <a:srgbClr val="000000"/>
              </a:solidFill>
              <a:latin typeface="Arial"/>
            </a:endParaRPr>
          </a:p>
          <a:p>
            <a:pPr marL="322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c41a8"/>
                </a:solidFill>
                <a:latin typeface="Arial"/>
                <a:cs typeface="AdvertisingMedium"/>
              </a:rPr>
              <a:t>لا توجد توقعات واضحة وايجابية لما ينتظر من الطلاب تحقيقه.</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23" name="PlaceHolder 2"/>
          <p:cNvSpPr>
            <a:spLocks noGrp="1"/>
          </p:cNvSpPr>
          <p:nvPr>
            <p:ph/>
          </p:nvPr>
        </p:nvSpPr>
        <p:spPr>
          <a:xfrm>
            <a:off x="2195640" y="1599840"/>
            <a:ext cx="6643440" cy="4853160"/>
          </a:xfrm>
          <a:prstGeom prst="rect">
            <a:avLst/>
          </a:prstGeom>
          <a:noFill/>
          <a:ln w="0">
            <a:noFill/>
          </a:ln>
        </p:spPr>
        <p:txBody>
          <a:bodyPr lIns="90000" rIns="90000" tIns="46800" bIns="46800" anchor="t">
            <a:normAutofit fontScale="93000"/>
          </a:bodyPr>
          <a:p>
            <a:pPr marL="318960" indent="-318960" algn="r" rtl="1">
              <a:lnSpc>
                <a:spcPct val="8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يميل الطلاب لمسايرة بعضهم فكريا ويفكرون في الغالب بعقل معلمهم أو عقول الآخرين .</a:t>
            </a:r>
            <a:endParaRPr b="0" lang="en-US" sz="32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r" rtl="1">
              <a:lnSpc>
                <a:spcPct val="8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المعلم في الغالب لم يعد يلعب دور النموذج لطلابه و احياناً يصبح الطالب هو النموذج.</a:t>
            </a:r>
            <a:endParaRPr b="0" lang="en-US" sz="32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r" rtl="1">
              <a:lnSpc>
                <a:spcPct val="8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يصعب على المعلم الاعتراف بأخطائه وبخاصة عندما يأتي التصويب من الطلاب .</a:t>
            </a:r>
            <a:br>
              <a:rPr sz="3200"/>
            </a:br>
            <a:r>
              <a:rPr b="0" lang="en-US" sz="3200" spc="-1" strike="noStrike">
                <a:solidFill>
                  <a:srgbClr val="3c41a8"/>
                </a:solidFill>
                <a:latin typeface="Arial"/>
              </a:rPr>
              <a:t>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8c0039"/>
                </a:solidFill>
                <a:latin typeface="Angsana New"/>
                <a:cs typeface="khalaad al-arabeh"/>
              </a:rPr>
              <a:t>تعريف التفكير</a:t>
            </a:r>
            <a:endParaRPr b="0" lang="en-US" sz="4800" spc="-1" strike="noStrike">
              <a:solidFill>
                <a:srgbClr val="8c0039"/>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3000"/>
          </a:bodyPr>
          <a:p>
            <a:pPr marL="318960" indent="-318960" algn="r" rtl="1">
              <a:spcBef>
                <a:spcPts val="1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c41a8"/>
                </a:solidFill>
                <a:latin typeface="Arial"/>
                <a:ea typeface="AdvertisingMedium"/>
              </a:rPr>
              <a:t> عبارة عن عملية عقلية يستطيع المتعلم عن طريقها عمل أي شيء ذي معنى من خلال الخبرة التي يمر بها</a:t>
            </a:r>
            <a:endParaRPr b="0" lang="en-US" sz="5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438280" y="228600"/>
            <a:ext cx="6400800" cy="22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8c0039"/>
                </a:solidFill>
                <a:latin typeface="Arial"/>
                <a:cs typeface="khalaad al-arabeh"/>
              </a:rPr>
              <a:t>أتمنى التوفيق للجميع</a:t>
            </a:r>
            <a:endParaRPr b="0" lang="en-US" sz="6000" spc="-1" strike="noStrike">
              <a:solidFill>
                <a:srgbClr val="8c0039"/>
              </a:solidFill>
              <a:latin typeface="Arial"/>
            </a:endParaRPr>
          </a:p>
        </p:txBody>
      </p:sp>
      <p:sp>
        <p:nvSpPr>
          <p:cNvPr id="125" name="PlaceHolder 2"/>
          <p:cNvSpPr>
            <a:spLocks noGrp="1"/>
          </p:cNvSpPr>
          <p:nvPr>
            <p:ph/>
          </p:nvPr>
        </p:nvSpPr>
        <p:spPr>
          <a:xfrm>
            <a:off x="2438280" y="3716280"/>
            <a:ext cx="6400800" cy="2379600"/>
          </a:xfrm>
          <a:prstGeom prst="rect">
            <a:avLst/>
          </a:prstGeom>
          <a:noFill/>
          <a:ln w="0">
            <a:noFill/>
          </a:ln>
        </p:spPr>
        <p:txBody>
          <a:bodyPr lIns="90000" rIns="90000" tIns="46800" bIns="46800" anchor="t">
            <a:normAutofit fontScale="94000"/>
          </a:bodyPr>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khalaad al-arabeh"/>
              </a:rPr>
              <a:t>المشرف التربوي</a:t>
            </a:r>
            <a:endParaRPr b="0" lang="en-US" sz="3600" spc="-1" strike="noStrike">
              <a:solidFill>
                <a:srgbClr val="000000"/>
              </a:solidFill>
              <a:latin typeface="Arial"/>
            </a:endParaRPr>
          </a:p>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khalaad al-arabeh"/>
              </a:rPr>
              <a:t>عيسى الحربي</a:t>
            </a:r>
            <a:endParaRPr b="0" lang="en-US" sz="3600" spc="-1" strike="noStrike">
              <a:solidFill>
                <a:srgbClr val="000000"/>
              </a:solidFill>
              <a:latin typeface="Arial"/>
            </a:endParaRPr>
          </a:p>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khalaad al-arabeh"/>
              </a:rPr>
              <a:t>إدارة التربية والتعليم بمحافظة القريات</a:t>
            </a:r>
            <a:endParaRPr b="0" lang="en-US" sz="3600" spc="-1" strike="noStrike">
              <a:solidFill>
                <a:srgbClr val="000000"/>
              </a:solidFill>
              <a:latin typeface="Arial"/>
            </a:endParaRPr>
          </a:p>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مفهوم مهارات التفكير</a:t>
            </a:r>
            <a:endParaRPr b="0" lang="en-US" sz="4800" spc="-1" strike="noStrike">
              <a:solidFill>
                <a:srgbClr val="8c0039"/>
              </a:solidFill>
              <a:latin typeface="Arial"/>
            </a:endParaRPr>
          </a:p>
        </p:txBody>
      </p:sp>
      <p:sp>
        <p:nvSpPr>
          <p:cNvPr id="91"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86000"/>
          </a:bodyPr>
          <a:p>
            <a:pPr marL="294840" indent="-294840" algn="r" rtl="1">
              <a:lnSpc>
                <a:spcPct val="90000"/>
              </a:lnSpc>
              <a:spcBef>
                <a:spcPts val="11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3c41a8"/>
                </a:solidFill>
                <a:latin typeface="Arial"/>
                <a:ea typeface="AdvertisingMedium"/>
              </a:rPr>
              <a:t> تلك العمليات التي نقوم بها من أجل جمع المعلومات وحفظها أو تخزينها، وذلك من خلال إجراءات التحليل والتخطيط والتقييم والوصول إلى استنتاجات وصنع القرارت</a:t>
            </a:r>
            <a:endParaRPr b="0" lang="en-US" sz="4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أمثلة على مهارات التفكير</a:t>
            </a:r>
            <a:endParaRPr b="0" lang="en-US" sz="4800" spc="-1" strike="noStrike">
              <a:solidFill>
                <a:srgbClr val="8c0039"/>
              </a:solidFill>
              <a:latin typeface="Arial"/>
            </a:endParaRPr>
          </a:p>
        </p:txBody>
      </p:sp>
      <p:sp>
        <p:nvSpPr>
          <p:cNvPr id="93"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تصنيف.</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استدلال.</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إصدار الأحكام.</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مقارنة.</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حل المشكلات.</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تفسير.</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تلخيص</a:t>
            </a:r>
            <a:r>
              <a:rPr b="0" lang="en-US" sz="3200" spc="-1" strike="noStrike">
                <a:solidFill>
                  <a:srgbClr val="000000"/>
                </a:solidFill>
                <a:latin typeface="Arial"/>
                <a:ea typeface="AdvertisingMedium"/>
              </a:rPr>
              <a:t>.</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عصف الذهني.</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أنماط التفكير</a:t>
            </a:r>
            <a:endParaRPr b="0" lang="en-US" sz="5400" spc="-1" strike="noStrike">
              <a:solidFill>
                <a:srgbClr val="8c0039"/>
              </a:solidFill>
              <a:latin typeface="Arial"/>
            </a:endParaRPr>
          </a:p>
        </p:txBody>
      </p:sp>
      <p:sp>
        <p:nvSpPr>
          <p:cNvPr id="95"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تفكير العلمي.</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تفكير الناقد.</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تفكير الإبداعي.</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تفكير المنطقي.</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عوامل مؤثرة في تعليم التفكير</a:t>
            </a:r>
            <a:endParaRPr b="0" lang="en-US" sz="4800" spc="-1" strike="noStrike">
              <a:solidFill>
                <a:srgbClr val="8c0039"/>
              </a:solidFill>
              <a:latin typeface="Arial"/>
            </a:endParaRPr>
          </a:p>
        </p:txBody>
      </p:sp>
      <p:sp>
        <p:nvSpPr>
          <p:cNvPr id="97"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7000"/>
          </a:bodyPr>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محتوى الدراسي.</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خصائص الطالب النمائي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دافعي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ميول.</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قدرات.</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بيئة المدرسي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بيت.</a:t>
            </a:r>
            <a:endParaRPr b="0" lang="en-US" sz="3600" spc="-1" strike="noStrike">
              <a:solidFill>
                <a:srgbClr val="000000"/>
              </a:solidFill>
              <a:latin typeface="Arial"/>
            </a:endParaRPr>
          </a:p>
          <a:p>
            <a:pPr marL="33264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المكلفين بتنمية مهارات التفكير</a:t>
            </a:r>
            <a:endParaRPr b="0" lang="en-US" sz="4800" spc="-1" strike="noStrike">
              <a:solidFill>
                <a:srgbClr val="8c0039"/>
              </a:solidFill>
              <a:latin typeface="Arial"/>
            </a:endParaRPr>
          </a:p>
        </p:txBody>
      </p:sp>
      <p:sp>
        <p:nvSpPr>
          <p:cNvPr id="99"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مشرف التربوي.</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مدير المدرسة.</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معلم.</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مرشد الطلابي.</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ولي أمر الطالب.</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طالب.</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8c0039"/>
                </a:solidFill>
                <a:latin typeface="Arial"/>
                <a:cs typeface="khalaad al-arabeh"/>
              </a:rPr>
              <a:t>أهمية تعليم التفكير للطالب</a:t>
            </a:r>
            <a:endParaRPr b="0" lang="en-US" sz="4400" spc="-1" strike="noStrike">
              <a:solidFill>
                <a:srgbClr val="8c0039"/>
              </a:solidFill>
              <a:latin typeface="Arial"/>
            </a:endParaRPr>
          </a:p>
        </p:txBody>
      </p:sp>
      <p:sp>
        <p:nvSpPr>
          <p:cNvPr id="101"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7000"/>
          </a:bodyPr>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تقدير الذات.</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الواقعي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تعزيز التعلم الذاتي.</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تحرير العقول.</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المناخ الاجتماعي.</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الاستعداد للحيا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المواطنة الصالحة.</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أهمية التفكير للمعلم</a:t>
            </a:r>
            <a:endParaRPr b="0" lang="en-US" sz="4800" spc="-1" strike="noStrike">
              <a:solidFill>
                <a:srgbClr val="8c0039"/>
              </a:solidFill>
              <a:latin typeface="Arial"/>
            </a:endParaRPr>
          </a:p>
        </p:txBody>
      </p:sp>
      <p:sp>
        <p:nvSpPr>
          <p:cNvPr id="103"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1000"/>
          </a:bodyPr>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الإلمام بمختلف أنماط التعليم.</a:t>
            </a:r>
            <a:endParaRPr b="0" lang="en-US" sz="4000" spc="-1" strike="noStrike">
              <a:solidFill>
                <a:srgbClr val="000000"/>
              </a:solidFill>
              <a:latin typeface="Arial"/>
            </a:endParaRPr>
          </a:p>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زيادة الدافعية والنشاط لدى المعلمين.</a:t>
            </a:r>
            <a:endParaRPr b="0" lang="en-US" sz="4000" spc="-1" strike="noStrike">
              <a:solidFill>
                <a:srgbClr val="000000"/>
              </a:solidFill>
              <a:latin typeface="Arial"/>
            </a:endParaRPr>
          </a:p>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الإثارة والتعاون والمشاركة.</a:t>
            </a:r>
            <a:endParaRPr b="0" lang="en-US" sz="4000" spc="-1" strike="noStrike">
              <a:solidFill>
                <a:srgbClr val="000000"/>
              </a:solidFill>
              <a:latin typeface="Arial"/>
            </a:endParaRPr>
          </a:p>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ثقة المعلم بنفسه.</a:t>
            </a:r>
            <a:endParaRPr b="0" lang="en-US" sz="4000" spc="-1" strike="noStrike">
              <a:solidFill>
                <a:srgbClr val="000000"/>
              </a:solidFill>
              <a:latin typeface="Arial"/>
            </a:endParaRPr>
          </a:p>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تعزيز الأداء بملاحظة الأثر.</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04-12-24T20:07:22Z</dcterms:modified>
  <cp:revision>11</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